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3D6-4ADF-4BD9-9D2C-645EB53F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179-A6BA-491A-8035-AA53F169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79C-81FD-4815-9211-CCA21528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951-2634-49FD-8662-687DBC29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8D46F-6847-4B18-B32E-27C480CD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C462D-3D5C-45F3-A3CA-818F988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DFD8-D09B-4CCA-B31C-5BDC717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90848-0405-4F9A-A3C1-237D969E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56CAE-7E03-4B5F-9EDB-C69F762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4DF93-5504-4666-9205-71B3B81B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2E0AF-1FE2-4F03-837D-181DF246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20E-643C-47B0-9F53-97481BF0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AB517-79DE-437A-BD74-0B9CAFA8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0B4FB-EA41-4F53-B238-7D7F8589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A2DAA-8618-46C7-8CEF-A288A772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9B63A-AC2E-4BA0-862F-67B3CE92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D980D-60DA-4DC5-B493-7A8CE9C4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1E58-7B32-4F48-A930-147CF228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7C8F-666A-4EB0-8762-8413936A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26BF-9926-4E01-AF49-AACA19CB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22FF-51F5-4176-B3EB-D2AF48A1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004F-36BF-45E1-BC90-CB1085F3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1D5-17D4-4CEF-8C21-B2F5576E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9B56-57CC-4670-9FC4-89CCE340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AF2B-EAD4-4D8D-9D23-F10B60F5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F9A7-CAF1-4CD2-B93F-366855FF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83A9-0139-4304-908A-E1393588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363A-FB70-429C-A954-7B6A4CC1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2863-780A-4788-89CA-D15C854A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1F8B-53F7-42F0-A0EF-1BBF5691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1F466-5A0D-44F9-AFB2-2E79A86D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7960B-B25A-4F7B-A6C8-15DA1EE3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D77DD-A36F-4757-8DD3-9571BF19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B33-9DFB-4484-99EB-4A1C71E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ECED1-CB9E-40F0-AD1C-8D1C117F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A4F62-FEDC-4DCE-88C2-3CB56321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80D51-0D11-4693-BF24-ABAEA808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12F2D-003A-43D8-857D-E801AA5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47839-F098-4F6B-BE37-517D6A3D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188E5-7761-4875-A597-5E86C7B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8B4FC-82D6-4392-B000-EA20EF18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FBD2F-D0B9-46E8-8C77-033D2F2D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25EC8-99A1-46F5-B6C2-356AA9CE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0EB-3AF5-4AA3-B480-312C747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B0B-FC3A-4030-AB42-EFCEEA0A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B7E-0BF9-4BF4-B468-18A29A30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437-21EB-40FA-86C6-E30526F7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E69-4C4D-4FE4-88E3-CEA7D434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A075-2B70-4736-9D75-CDC86D599D85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1C86-7C82-4C7D-80BF-29CBBFCAA8D3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DD0B-3110-4BC0-8A08-C9356BD5FE0F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8120-9AF2-474A-83A9-E7B6E7A30BA5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50920" y="1125360"/>
            <a:ext cx="98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связь между классами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рганических веществ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1763640" y="4365720"/>
            <a:ext cx="64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 Пучкина Зинаида Адольф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тель химии школы 523 Колпинского района СП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b5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250920" y="2858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Verdana"/>
              </a:rPr>
              <a:t>Генетический ряд</a:t>
            </a: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 неметаллов </a:t>
            </a:r>
            <a:r>
              <a:rPr b="1" lang="ru-RU" sz="2400" spc="-1" strike="noStrike">
                <a:solidFill>
                  <a:srgbClr val="333a1d"/>
                </a:solidFill>
                <a:latin typeface="Verdana"/>
              </a:rPr>
              <a:t>отражает взаимосвязь веществ разных классов в основу которой положен один и тот же неметал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108000" y="1628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Verdan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059280" y="155736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Verdana"/>
              </a:rPr>
              <a:t>кислотный окси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6300720" y="162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Verdana"/>
              </a:rPr>
              <a:t>кисло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7740720" y="220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Verdana"/>
              </a:rPr>
              <a:t>со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Прямая со стрелкой 9" descr=""/>
          <p:cNvPicPr/>
          <p:nvPr/>
        </p:nvPicPr>
        <p:blipFill>
          <a:blip r:embed="rId1"/>
          <a:stretch/>
        </p:blipFill>
        <p:spPr>
          <a:xfrm>
            <a:off x="2163600" y="781200"/>
            <a:ext cx="1268640" cy="7556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ая со стрелкой 10" descr=""/>
          <p:cNvPicPr/>
          <p:nvPr/>
        </p:nvPicPr>
        <p:blipFill>
          <a:blip r:embed="rId2"/>
          <a:stretch/>
        </p:blipFill>
        <p:spPr>
          <a:xfrm>
            <a:off x="6967440" y="2077920"/>
            <a:ext cx="1139760" cy="9334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ая со стрелкой 11" descr=""/>
          <p:cNvPicPr/>
          <p:nvPr/>
        </p:nvPicPr>
        <p:blipFill>
          <a:blip r:embed="rId3"/>
          <a:stretch/>
        </p:blipFill>
        <p:spPr>
          <a:xfrm>
            <a:off x="5334120" y="927000"/>
            <a:ext cx="1341360" cy="7556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5"/>
          <p:cNvSpPr/>
          <p:nvPr/>
        </p:nvSpPr>
        <p:spPr>
          <a:xfrm>
            <a:off x="179280" y="2690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Verdana"/>
              </a:rPr>
              <a:t>Генетический ряд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еталлов </a:t>
            </a:r>
            <a:r>
              <a:rPr b="1" lang="ru-RU" sz="2400" spc="-1" strike="noStrike">
                <a:solidFill>
                  <a:srgbClr val="333a1d"/>
                </a:solidFill>
                <a:latin typeface="Verdana"/>
              </a:rPr>
              <a:t>отражает взаимосвязь веществ разных классов в основу которой положен один и тот же метал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Прямоугольник 16"/>
          <p:cNvSpPr/>
          <p:nvPr/>
        </p:nvSpPr>
        <p:spPr>
          <a:xfrm>
            <a:off x="250920" y="40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тал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Прямая со стрелкой 17" descr=""/>
          <p:cNvPicPr/>
          <p:nvPr/>
        </p:nvPicPr>
        <p:blipFill>
          <a:blip r:embed="rId4"/>
          <a:stretch/>
        </p:blipFill>
        <p:spPr>
          <a:xfrm>
            <a:off x="2017800" y="3157560"/>
            <a:ext cx="1201680" cy="755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9"/>
          <p:cNvSpPr/>
          <p:nvPr/>
        </p:nvSpPr>
        <p:spPr>
          <a:xfrm>
            <a:off x="2916360" y="39830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новной окси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Прямая со стрелкой 20" descr=""/>
          <p:cNvPicPr/>
          <p:nvPr/>
        </p:nvPicPr>
        <p:blipFill>
          <a:blip r:embed="rId5"/>
          <a:stretch/>
        </p:blipFill>
        <p:spPr>
          <a:xfrm>
            <a:off x="5041800" y="3157560"/>
            <a:ext cx="1266840" cy="7556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2"/>
          <p:cNvSpPr/>
          <p:nvPr/>
        </p:nvSpPr>
        <p:spPr>
          <a:xfrm>
            <a:off x="6012000" y="4005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н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Прямая со стрелкой 23" descr=""/>
          <p:cNvPicPr/>
          <p:nvPr/>
        </p:nvPicPr>
        <p:blipFill>
          <a:blip r:embed="rId6"/>
          <a:stretch/>
        </p:blipFill>
        <p:spPr>
          <a:xfrm>
            <a:off x="6754680" y="4383000"/>
            <a:ext cx="1140120" cy="10065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4"/>
          <p:cNvSpPr/>
          <p:nvPr/>
        </p:nvSpPr>
        <p:spPr>
          <a:xfrm>
            <a:off x="7020000" y="5084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b5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38040" y="714240"/>
            <a:ext cx="109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2" name="Прямая со стрелкой 3"/>
          <p:cNvCxnSpPr/>
          <p:nvPr/>
        </p:nvCxnSpPr>
        <p:spPr>
          <a:xfrm flipH="1">
            <a:off x="1141200" y="1785960"/>
            <a:ext cx="2160" cy="216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pic>
        <p:nvPicPr>
          <p:cNvPr id="253" name="Прямая со стрелкой 7" descr=""/>
          <p:cNvPicPr/>
          <p:nvPr/>
        </p:nvPicPr>
        <p:blipFill>
          <a:blip r:embed="rId1"/>
          <a:stretch/>
        </p:blipFill>
        <p:spPr>
          <a:xfrm>
            <a:off x="725400" y="438120"/>
            <a:ext cx="1127160" cy="75744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5962680" y="1139760"/>
            <a:ext cx="1071360" cy="86508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3029040" y="890640"/>
            <a:ext cx="1201680" cy="7556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2"/>
          <p:cNvSpPr/>
          <p:nvPr/>
        </p:nvSpPr>
        <p:spPr>
          <a:xfrm>
            <a:off x="1476360" y="692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5435640" y="1773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3924360" y="765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250920" y="32446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С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Прямая со стрелкой 21" descr=""/>
          <p:cNvPicPr/>
          <p:nvPr/>
        </p:nvPicPr>
        <p:blipFill>
          <a:blip r:embed="rId4"/>
          <a:stretch/>
        </p:blipFill>
        <p:spPr>
          <a:xfrm>
            <a:off x="1085760" y="2962440"/>
            <a:ext cx="1054080" cy="755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3"/>
          <p:cNvSpPr/>
          <p:nvPr/>
        </p:nvSpPr>
        <p:spPr>
          <a:xfrm>
            <a:off x="1908000" y="3213000"/>
            <a:ext cx="15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а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Прямая со стрелкой 25" descr=""/>
          <p:cNvPicPr/>
          <p:nvPr/>
        </p:nvPicPr>
        <p:blipFill>
          <a:blip r:embed="rId5"/>
          <a:stretch/>
        </p:blipFill>
        <p:spPr>
          <a:xfrm>
            <a:off x="3243240" y="2962440"/>
            <a:ext cx="1200240" cy="75564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27"/>
          <p:cNvSpPr/>
          <p:nvPr/>
        </p:nvSpPr>
        <p:spPr>
          <a:xfrm>
            <a:off x="4140360" y="3213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Са(ОН)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Прямая со стрелкой 28" descr=""/>
          <p:cNvPicPr/>
          <p:nvPr/>
        </p:nvPicPr>
        <p:blipFill>
          <a:blip r:embed="rId6"/>
          <a:stretch/>
        </p:blipFill>
        <p:spPr>
          <a:xfrm>
            <a:off x="5688000" y="3870360"/>
            <a:ext cx="1346040" cy="8730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0"/>
          <p:cNvSpPr/>
          <p:nvPr/>
        </p:nvSpPr>
        <p:spPr>
          <a:xfrm>
            <a:off x="6227640" y="4437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aCl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7"/>
          <p:cNvSpPr/>
          <p:nvPr/>
        </p:nvSpPr>
        <p:spPr>
          <a:xfrm>
            <a:off x="1116000" y="141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64240" y="-1855800"/>
            <a:ext cx="866592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4P +5O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2P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O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P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O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+ 3H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2H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PO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H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PO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+ 3AgNO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Ag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PO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+3HNO</a:t>
            </a:r>
            <a:r>
              <a:rPr b="1" lang="en-US" sz="3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2538360"/>
            <a:ext cx="9144000" cy="30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             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Ca + O</a:t>
            </a:r>
            <a:r>
              <a:rPr b="1" lang="en-US" sz="40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Calibri"/>
                <a:ea typeface="Calibri"/>
              </a:rPr>
              <a:t>→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 2CaO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CaO + H</a:t>
            </a:r>
            <a:r>
              <a:rPr b="1" lang="en-US" sz="4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O 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Calibri"/>
                <a:ea typeface="Calibri"/>
              </a:rPr>
              <a:t>→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 Ca(OH)</a:t>
            </a:r>
            <a:r>
              <a:rPr b="1" lang="en-US" sz="4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Ca(OH)</a:t>
            </a:r>
            <a:r>
              <a:rPr b="1" lang="en-US" sz="4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 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+ 2HCl 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Calibri"/>
                <a:ea typeface="Calibri"/>
              </a:rPr>
              <a:t>→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 CaCl</a:t>
            </a:r>
            <a:r>
              <a:rPr b="1" lang="en-US" sz="4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 + 2H</a:t>
            </a:r>
            <a:r>
              <a:rPr b="1" lang="en-US" sz="4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1" lang="en-US" sz="54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O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b5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576720" y="981000"/>
            <a:ext cx="7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2340000" y="98100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1991880" y="198900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(OH)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4664880" y="105264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Cl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7417080" y="2060640"/>
            <a:ext cx="7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Прямая со стрелкой 8" descr=""/>
          <p:cNvPicPr/>
          <p:nvPr/>
        </p:nvPicPr>
        <p:blipFill>
          <a:blip r:embed="rId1"/>
          <a:stretch/>
        </p:blipFill>
        <p:spPr>
          <a:xfrm>
            <a:off x="1395360" y="963720"/>
            <a:ext cx="1244520" cy="75564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ая со стрелкой 9" descr=""/>
          <p:cNvPicPr/>
          <p:nvPr/>
        </p:nvPicPr>
        <p:blipFill>
          <a:blip r:embed="rId2"/>
          <a:stretch/>
        </p:blipFill>
        <p:spPr>
          <a:xfrm>
            <a:off x="3602160" y="963720"/>
            <a:ext cx="1201680" cy="75564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ая со стрелкой 11" descr=""/>
          <p:cNvPicPr/>
          <p:nvPr/>
        </p:nvPicPr>
        <p:blipFill>
          <a:blip r:embed="rId3"/>
          <a:stretch/>
        </p:blipFill>
        <p:spPr>
          <a:xfrm>
            <a:off x="6267600" y="2041560"/>
            <a:ext cx="1412640" cy="7570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3"/>
          <p:cNvSpPr/>
          <p:nvPr/>
        </p:nvSpPr>
        <p:spPr>
          <a:xfrm>
            <a:off x="5200200" y="206064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Прямая со стрелкой 14" descr=""/>
          <p:cNvPicPr/>
          <p:nvPr/>
        </p:nvPicPr>
        <p:blipFill>
          <a:blip r:embed="rId4"/>
          <a:stretch/>
        </p:blipFill>
        <p:spPr>
          <a:xfrm>
            <a:off x="4181400" y="1968480"/>
            <a:ext cx="1268640" cy="75564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ая со стрелкой 15" descr=""/>
          <p:cNvPicPr/>
          <p:nvPr/>
        </p:nvPicPr>
        <p:blipFill>
          <a:blip r:embed="rId5"/>
          <a:stretch/>
        </p:blipFill>
        <p:spPr>
          <a:xfrm>
            <a:off x="6340320" y="1036800"/>
            <a:ext cx="1157400" cy="75564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ая со стрелкой 17" descr=""/>
          <p:cNvPicPr/>
          <p:nvPr/>
        </p:nvPicPr>
        <p:blipFill>
          <a:blip r:embed="rId6"/>
          <a:stretch/>
        </p:blipFill>
        <p:spPr>
          <a:xfrm>
            <a:off x="438120" y="1968480"/>
            <a:ext cx="1414440" cy="7556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3"/>
          <p:cNvSpPr/>
          <p:nvPr/>
        </p:nvSpPr>
        <p:spPr>
          <a:xfrm>
            <a:off x="0" y="112536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250920" y="3357720"/>
            <a:ext cx="7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900000" y="3284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i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→ X → LiOH → Li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→   X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6588000" y="292428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 BaC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1158120" y="549360"/>
            <a:ext cx="31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ведение итогов урок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684360" y="90792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Добились ли мы поставленной цел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684360" y="148428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Для чего нужно знать взаимосвязь между классами веществ?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755640" y="364500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Закончите фраз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Я научился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Я затрудняюсь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755640" y="2421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правились ли вы со всеми заданиям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900000" y="306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К каким вопросам следует еще обратить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b5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2"/>
          <p:cNvSpPr/>
          <p:nvPr/>
        </p:nvSpPr>
        <p:spPr>
          <a:xfrm>
            <a:off x="347400" y="21420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тал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1657440" y="79848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2"/>
          <p:cNvSpPr/>
          <p:nvPr/>
        </p:nvSpPr>
        <p:spPr>
          <a:xfrm>
            <a:off x="1315440" y="1428840"/>
            <a:ext cx="36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сновной окси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4" name="Прямая со стрелкой 15" descr=""/>
          <p:cNvPicPr/>
          <p:nvPr/>
        </p:nvPicPr>
        <p:blipFill>
          <a:blip r:embed="rId2"/>
          <a:stretch/>
        </p:blipFill>
        <p:spPr>
          <a:xfrm>
            <a:off x="3164040" y="1944720"/>
            <a:ext cx="1066680" cy="9316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4118760" y="2357280"/>
            <a:ext cx="24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сн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Прямая со стрелкой 22" descr=""/>
          <p:cNvPicPr/>
          <p:nvPr/>
        </p:nvPicPr>
        <p:blipFill>
          <a:blip r:embed="rId3"/>
          <a:stretch/>
        </p:blipFill>
        <p:spPr>
          <a:xfrm>
            <a:off x="5662440" y="2871720"/>
            <a:ext cx="1140120" cy="10051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3"/>
          <p:cNvSpPr/>
          <p:nvPr/>
        </p:nvSpPr>
        <p:spPr>
          <a:xfrm>
            <a:off x="6559200" y="35719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Прямая со стрелкой 9" descr=""/>
          <p:cNvPicPr/>
          <p:nvPr/>
        </p:nvPicPr>
        <p:blipFill>
          <a:blip r:embed="rId4"/>
          <a:stretch/>
        </p:blipFill>
        <p:spPr>
          <a:xfrm>
            <a:off x="6053040" y="4084560"/>
            <a:ext cx="1146240" cy="10731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1"/>
          <p:cNvSpPr/>
          <p:nvPr/>
        </p:nvSpPr>
        <p:spPr>
          <a:xfrm>
            <a:off x="5761800" y="4929120"/>
            <a:ext cx="24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сн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Прямая со стрелкой 13" descr=""/>
          <p:cNvPicPr/>
          <p:nvPr/>
        </p:nvPicPr>
        <p:blipFill>
          <a:blip r:embed="rId5"/>
          <a:stretch/>
        </p:blipFill>
        <p:spPr>
          <a:xfrm>
            <a:off x="4621320" y="5303880"/>
            <a:ext cx="1146240" cy="10047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ая со стрелкой 14" descr=""/>
          <p:cNvPicPr/>
          <p:nvPr/>
        </p:nvPicPr>
        <p:blipFill>
          <a:blip r:embed="rId6"/>
          <a:stretch/>
        </p:blipFill>
        <p:spPr>
          <a:xfrm>
            <a:off x="1122480" y="4767120"/>
            <a:ext cx="938160" cy="13525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8"/>
          <p:cNvSpPr/>
          <p:nvPr/>
        </p:nvSpPr>
        <p:spPr>
          <a:xfrm>
            <a:off x="1243800" y="5929200"/>
            <a:ext cx="36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сновной окси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Box 20"/>
          <p:cNvSpPr/>
          <p:nvPr/>
        </p:nvSpPr>
        <p:spPr>
          <a:xfrm>
            <a:off x="561600" y="414324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тал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319480" y="63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068480" y="2133720"/>
            <a:ext cx="2014200" cy="581400"/>
          </a:xfrm>
          <a:prstGeom prst="rect">
            <a:avLst/>
          </a:prstGeom>
          <a:solidFill>
            <a:srgbClr val="7f6f6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ос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412600" y="2133720"/>
            <a:ext cx="2165040" cy="581400"/>
          </a:xfrm>
          <a:prstGeom prst="rect">
            <a:avLst/>
          </a:prstGeom>
          <a:solidFill>
            <a:srgbClr val="7f6f6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лож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046880" y="3068640"/>
            <a:ext cx="2146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571"/>
                </a:solidFill>
                <a:latin typeface="Verdana"/>
              </a:rPr>
              <a:t>Металл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95280" y="4005360"/>
            <a:ext cx="2879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571"/>
                </a:solidFill>
                <a:latin typeface="Verdana"/>
              </a:rPr>
              <a:t>Неметалл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360760" y="2997360"/>
            <a:ext cx="1873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571"/>
                </a:solidFill>
                <a:latin typeface="Verdana"/>
              </a:rPr>
              <a:t>Окси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486400" y="5661000"/>
            <a:ext cx="1245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571"/>
                </a:solidFill>
                <a:latin typeface="Verdana"/>
              </a:rPr>
              <a:t>Со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5447880" y="4797360"/>
            <a:ext cx="20401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571"/>
                </a:solidFill>
                <a:latin typeface="Verdan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5403960" y="3860640"/>
            <a:ext cx="2539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571"/>
                </a:solidFill>
                <a:latin typeface="Verdana"/>
              </a:rPr>
              <a:t>Осн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9"/>
          <p:cNvSpPr/>
          <p:nvPr/>
        </p:nvSpPr>
        <p:spPr>
          <a:xfrm rot="17872200">
            <a:off x="2015640" y="1233360"/>
            <a:ext cx="936720" cy="432000"/>
          </a:xfrm>
          <a:prstGeom prst="leftArrow">
            <a:avLst>
              <a:gd name="adj1" fmla="val 50000"/>
              <a:gd name="adj2" fmla="val 5420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20"/>
          <p:cNvSpPr/>
          <p:nvPr/>
        </p:nvSpPr>
        <p:spPr>
          <a:xfrm rot="14136600">
            <a:off x="5507280" y="1195920"/>
            <a:ext cx="1008360" cy="431640"/>
          </a:xfrm>
          <a:prstGeom prst="leftArrow">
            <a:avLst>
              <a:gd name="adj1" fmla="val 50000"/>
              <a:gd name="adj2" fmla="val 584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411280" y="260280"/>
            <a:ext cx="3673440" cy="825120"/>
          </a:xfrm>
          <a:prstGeom prst="rect">
            <a:avLst/>
          </a:prstGeom>
          <a:solidFill>
            <a:srgbClr val="7f6f6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Verdana"/>
              </a:rPr>
              <a:t>Веществ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684360" y="1557360"/>
            <a:ext cx="767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Взаимосвязь между классами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еорганических вещест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195560" y="105264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ма уро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1059480" y="1484280"/>
            <a:ext cx="76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Установить взаимосвязь между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лассами вещест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117440" y="3645000"/>
            <a:ext cx="64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Повторить классы вещест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258920" y="620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Цели уро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6880" y="1700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64320" y="285264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C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088000" y="17733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8360" y="37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C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533680" y="29242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95280" y="450864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N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084720" y="38606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(OH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2308320" y="38606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050920" y="458136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S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3924360" y="4581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58640" y="260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Основ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окси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2328840" y="2602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си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4347360" y="333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7911000" y="333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Со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129720" y="33336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924360" y="292428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3957120" y="19162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5533920" y="1855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703840" y="2997360"/>
            <a:ext cx="7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3851280" y="386064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7358040" y="1844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7020000" y="299736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611280" y="981000"/>
          <a:ext cx="7993080" cy="3718080"/>
        </p:xfrm>
        <a:graphic>
          <a:graphicData uri="http://schemas.openxmlformats.org/drawingml/2006/table">
            <a:tbl>
              <a:tblPr/>
              <a:tblGrid>
                <a:gridCol w="1598400"/>
                <a:gridCol w="1497240"/>
                <a:gridCol w="1584360"/>
                <a:gridCol w="1512720"/>
                <a:gridCol w="1800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снов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кси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ислот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кси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сн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исл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2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2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2O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(OH)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2SO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NO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Cl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3(PO4)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O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13" name="TextBox 3"/>
          <p:cNvSpPr/>
          <p:nvPr/>
        </p:nvSpPr>
        <p:spPr>
          <a:xfrm>
            <a:off x="971640" y="47973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0 - 1 ошибки  -  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 – 4 ошибки  -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 – 7 ошибок  - 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 еще меньше 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48160" y="857160"/>
            <a:ext cx="63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Как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оказать наличие 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астворе кислот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19120" y="171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571680" y="250020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714240" y="2500200"/>
            <a:ext cx="648000" cy="576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642960" y="857160"/>
            <a:ext cx="647640" cy="576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642960" y="3857760"/>
            <a:ext cx="647640" cy="5760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1680" y="3857760"/>
            <a:ext cx="79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пределите, в какой пробирке находится кислота, а в какой щелоч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1332000" y="227664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Как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оказать наличие 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астворе щелоч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a4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84360" y="260280"/>
            <a:ext cx="656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Химический диктан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8000" y="1035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ксид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трия        а) сульфат лит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161136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) гидроксид бария   б) азотная кисло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)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трат алюминия  в) гидроксид маг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0" y="270828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) Оксид серы (6)      г) карбонат каль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0" y="3357720"/>
            <a:ext cx="90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)фосфорная             д) оксид хрома (3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0" y="4292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)сульфит калия       е) оксид фосфора (5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1516320" y="11970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 вариан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5476320" y="11970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 вариан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a4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1992960" y="285840"/>
            <a:ext cx="46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ьные отве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88120" y="1108080"/>
            <a:ext cx="2338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(OH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l(N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Mg(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1042920" y="494172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1-2 ошибки «4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3 ошибки «3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4284720" y="1197000"/>
            <a:ext cx="309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N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g(OH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C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)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6:58:44Z</dcterms:created>
  <dc:creator>Admin</dc:creator>
  <dc:description/>
  <dc:language>en-US</dc:language>
  <cp:lastModifiedBy>User</cp:lastModifiedBy>
  <dcterms:modified xsi:type="dcterms:W3CDTF">2017-03-16T05:14:44Z</dcterms:modified>
  <cp:revision>73</cp:revision>
  <dc:subject/>
  <dc:title>Слайд 1</dc:title>
</cp:coreProperties>
</file>